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49C-5D96-42ED-846E-7F3C9837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E3E-007A-4F28-97E0-6F71DA14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3766-A3A9-43E3-AA0B-75BFA520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473-E4D5-4CF3-BD40-65855049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C2D0-704D-4013-9CFA-46005995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ED4D-BB43-44C4-BF37-04C0995A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4442-A995-4358-83EF-1F3CD8A3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9635-E046-4A4B-92FD-FEB6820A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9D43-4A5B-4860-AF50-089A6F14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7D0F-09EB-438E-B03E-722AE4C7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EBDA-CC03-4727-AF14-818C1458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D7D-CA30-4CBC-9DF8-AE6BCB1A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3EA8-A1E3-4B66-BEA2-BEFF95AB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B2E4-911E-4926-94E5-A61A3919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A0FA-8526-4A39-B327-C5F7215D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99EE-4407-43C2-9CAA-452471DF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4277-9B17-4DB8-98BC-5AD834E4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6190-5CE9-4FF6-814B-244A1CCD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C9F-1AF3-47B5-94D6-0C3848F3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FF6D-D2C6-4153-BE55-7906E8C4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90E-D084-4969-BE40-E381355A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D85-F2A2-4EDD-8A3D-80B50518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D13-2CB0-4D46-A601-E4BC9B87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DB3-9131-44C3-99FC-A33E8105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9FB6-6BE7-412F-A6FD-D144FBFE17E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C5D8-360B-4DF6-9DB8-8F41730885A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一章  经济全球化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主要内容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的产生与发展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的特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的发展趋势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一、经济全球化的产生与发展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经济全球化的定义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从资源配置角度的定义：资源配置的全球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从生产关系角度的定义：资本主义生产关系的全球普遍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经济全球化的发展历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中期以前的萌芽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中期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初的生长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两次世界大战期间以及战后的曲折发展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末而今的迅速扩展与深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经济全球化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跨国公司作用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技术进步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国际机构驱动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矛盾演化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综合因素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世界政治环境的变化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科学技术突破性发展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跨国公司的全球战略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新自由主义的兴起（国际组织奉行“华盛顿共识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ashington Consensus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最早由当时任世界银行官员的经济学家约翰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威廉姆森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John Williamson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990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年提出。当时他提出这一“共识”基于拉美国家截至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80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年代末经济改革的既有成败经验，提出“共识”的意图是把它作为拉美国家经济改革的指导思想。“华盛顿共识”出台之后，得到了世界银行和国际货币基金组织的支持。主要内容：税收改革（降低边际税率和扩大税基）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利率自由化，竞争性的汇率，贸易自由化，外国直接投资的流入自由化，私有化，放松管制（以消除进入或者退出障碍），保护产权。世界银行和国际货币基金组织等国际组织把“华盛顿共识”作为发展援助或者危机救援的 “前置条件”使用，推进经济自由化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经济全球化的特征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知识经济和新技术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信息技术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为基础的经济全球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分工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垂直型、水平型）日益深化的经济全球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经济主体的多元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家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公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银行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市场体系的全球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全球化与国际间区域一体化和集团化并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国的核心竞争力发生变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知识和人力资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达国家在经济全球化过程中起着主导作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全球化背景下更加凸显国家和民族利益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四、经济全球化的影响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全球化对发达国家的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积极影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拓展市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促进贸易增长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扩大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竞争推动技术创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消极影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外部冲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资源与环境问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就业问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全球化对发展中国家的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机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吸引外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引进外来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推动技术进步和产业调整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增强企业竞争力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公司得以发展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贸易发展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不利影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分工中的不利地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外部冲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展中国家的发展不平衡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主权受到冲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安全受到挑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五、经济全球化发展趋势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金融业在经济全球化中举足轻重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国际贸易进一步推动市场的一体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跨国公司推动着全球化的深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信息技术将彻底改变人类的生产与生活方式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经济风险全球化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05:56:29Z</dcterms:created>
  <dc:creator>YPL</dc:creator>
  <dc:description/>
  <dc:language>en-US</dc:language>
  <cp:lastModifiedBy>Dell</cp:lastModifiedBy>
  <dcterms:modified xsi:type="dcterms:W3CDTF">2021-08-23T22:43:04Z</dcterms:modified>
  <cp:revision>15</cp:revision>
  <dc:subject/>
  <dc:title>第一章  经济全球化</dc:title>
</cp:coreProperties>
</file>